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11.jpeg" ContentType="image/jpeg"/>
  <Override PartName="/ppt/media/image5.gif" ContentType="image/gif"/>
  <Override PartName="/ppt/media/image6.gif" ContentType="image/gif"/>
  <Override PartName="/ppt/media/image10.jpeg" ContentType="image/jpeg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3416F-9B69-49C4-8875-1A6753B4D5F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a microscope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e today 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 of th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im of the experiment was to make a microscope slide of an onion skin, look at it at different magnifications and draw what we saw.  We needed to identify the cell walls, nucleus and the cytopla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e safe we wore goggles and were very careful how we used the scalpel.  Because the glass could have broken we were very careful how we held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experiment we used a microscope, a glass slide, a cover slip, a pair of forceps and a piece of onion sk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ut open an onion and took a piece of very thin skin.  We placed this onto the middle of a microscope slid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we put a thin piece of glass called a cover slip on top of the onion skin and gently pressed it fl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hat we put the slide under a microscope with the lens set at low magnif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turned the focus dial until we could clearly see the skin.  We used a pencil to draw what we saw and labelled it with the magnif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what we saw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igher the magnification we us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gger the cells becam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20 x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50 x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100 x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 up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ion 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topla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conclu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croscope let us see the onion skin at different magnifica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 x 20 magnification it still looked quite far away but we could see some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x 50 magnification we could see the cells clearly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x 100 magnification we could see individual cells, and the cell walls containing the cytopla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0778-3014-4EC3-B9A8-F6FCA39DF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6629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8440" y="4130640"/>
            <a:ext cx="6629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1735-7C09-4BBA-B642-E2C9C8D2D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844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2540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EAF3-FCC6-48B9-8B1B-6E441AB58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70160" y="198108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11520" y="198108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8440" y="413064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70160" y="413064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11520" y="413064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6B13-E3A8-4C3B-B488-32D3055AE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2D132-436D-44B8-AF37-32CCF72E8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82844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26B2F-F332-4954-BFE8-E99636852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7A803-7748-4671-A417-7C49CE3CB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AD45D-DB9B-4D04-A177-D605BC844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7D560-DA0A-4928-9685-B204FC241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82844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A2E9C-875C-4445-B089-D7F4E31A1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82844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91D08-0DAC-44EB-9975-C4DCCA95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844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4549-4D21-4195-9F43-4DB8CC01A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2540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F142B-407C-4CA1-B9A6-27AC4B49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828440" y="4130640"/>
            <a:ext cx="6629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4B6E5-096A-480A-9E75-DC41A885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6629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828440" y="4130640"/>
            <a:ext cx="6629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429A6-6B52-4977-A74D-A2AA78585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82844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2540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07404-92BC-4696-8D55-B057BCFBE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70160" y="198108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11520" y="198108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828440" y="413064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070160" y="413064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11520" y="413064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FC04F-0A62-420F-8EF4-DC7D61FEB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DCEA-1ACE-4464-96B2-7EF089A19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2E7F-4504-4E00-A81B-A5AC734E3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92CE-FB7F-41D9-AA60-B8E98AFAA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44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003A-64EC-4428-AD83-423DBFE3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844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E39E-B626-46E6-AAFA-8EA84BBF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2540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4B58-A560-4CEC-B420-54553F3D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8440" y="4130640"/>
            <a:ext cx="6629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EA69-FB5A-4BF8-AB34-594B30C9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844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 Rounded MT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 Rounded MT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8BCA8-3899-4E41-AAEF-938064578BE9}" type="slidenum"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lens_anim"/>
          <p:cNvPicPr/>
          <p:nvPr/>
        </p:nvPicPr>
        <p:blipFill>
          <a:blip r:embed="rId3"/>
          <a:stretch/>
        </p:blipFill>
        <p:spPr>
          <a:xfrm>
            <a:off x="7010280" y="472428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82844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 Rounded MT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 Rounded MT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3E5D6-A26B-42AB-90E4-7797C5CD37DF}" type="slidenum"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71280" y="162828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Gill Sans MT Schoolbook"/>
              </a:rPr>
              <a:t>Making a microscope slide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8028000" y="-2700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-36360" y="-2700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1 of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2124000" y="83664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The date today i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79280" y="7646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Gill Sans MT Schoolbook"/>
              </a:rPr>
              <a:t>Aim of the experiment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627280" y="2205000"/>
            <a:ext cx="612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The aim of the experiment was to make a microscope slide of an onion skin, look at it at different magnifications and draw what we saw.  We needed to identify the cell walls, nucleus and the cytoplasm.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8028000" y="-2700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-36360" y="-2700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2 of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6" descr="exclaim_hg_clr"/>
          <p:cNvPicPr/>
          <p:nvPr/>
        </p:nvPicPr>
        <p:blipFill>
          <a:blip r:embed="rId1"/>
          <a:stretch/>
        </p:blipFill>
        <p:spPr>
          <a:xfrm>
            <a:off x="8129520" y="260280"/>
            <a:ext cx="843120" cy="210996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Gill Sans MT Schoolbook"/>
              </a:rPr>
              <a:t>Safety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00000" y="2133720"/>
            <a:ext cx="5551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To be safe we wore goggles and were very careful how we used the scalpel.  Because the glass could have broken we were very careful how we held it.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8028000" y="-2700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-36360" y="-2700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3 of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6" descr="chemical_hazard_safety_poisonous_square_rotate_lg_clr"/>
          <p:cNvPicPr/>
          <p:nvPr/>
        </p:nvPicPr>
        <p:blipFill>
          <a:blip r:embed="rId1"/>
          <a:stretch/>
        </p:blipFill>
        <p:spPr>
          <a:xfrm>
            <a:off x="2700360" y="549360"/>
            <a:ext cx="1238400" cy="12380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safety_goggles_detail_lg_clr"/>
          <p:cNvPicPr/>
          <p:nvPr/>
        </p:nvPicPr>
        <p:blipFill>
          <a:blip r:embed="rId2"/>
          <a:stretch/>
        </p:blipFill>
        <p:spPr>
          <a:xfrm>
            <a:off x="6372360" y="907920"/>
            <a:ext cx="1145880" cy="68112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Gill Sans MT Schoolbook"/>
              </a:rPr>
              <a:t>Apparatus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987640" y="2492280"/>
            <a:ext cx="561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In this experiment we used a microscope, a glass slide, a cover slip, a pair of forceps and a piece of onion skin. 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8028000" y="-2700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-36360" y="-2700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4 of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7" descr="microscope_switching_lenses_hg_clr"/>
          <p:cNvPicPr/>
          <p:nvPr/>
        </p:nvPicPr>
        <p:blipFill>
          <a:blip r:embed="rId1"/>
          <a:stretch/>
        </p:blipFill>
        <p:spPr>
          <a:xfrm>
            <a:off x="6659640" y="404640"/>
            <a:ext cx="1438200" cy="177192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Gill Sans MT Schoolbook"/>
              </a:rPr>
              <a:t>Method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84000" y="1699920"/>
            <a:ext cx="62341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We cut open an onion and took a piece of very thin skin.  We placed this onto the middle of a microscope slide.  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Then we put a thin piece of glass called a cover slip on top of the onion skin and gently pressed it flat.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After that we put the slide under a microscope with the lens set at low magnification.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8028000" y="-2700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-36360" y="-2700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5 of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6" descr="mad_scientist_mixing_solution_hg_clr"/>
          <p:cNvPicPr/>
          <p:nvPr/>
        </p:nvPicPr>
        <p:blipFill>
          <a:blip r:embed="rId1"/>
          <a:stretch/>
        </p:blipFill>
        <p:spPr>
          <a:xfrm>
            <a:off x="6588000" y="333360"/>
            <a:ext cx="1084320" cy="148896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Gill Sans MT Schoolbook"/>
              </a:rPr>
              <a:t>Method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484000" y="1699920"/>
            <a:ext cx="62341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We turned the focus dial until we could clearly see the skin.  We used a pencil to draw what we saw and labelled it with the magnification.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8028000" y="-2700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-36360" y="-2700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6 of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6" descr="mad_scientist_mixing_solution_hg_clr"/>
          <p:cNvPicPr/>
          <p:nvPr/>
        </p:nvPicPr>
        <p:blipFill>
          <a:blip r:embed="rId1"/>
          <a:stretch/>
        </p:blipFill>
        <p:spPr>
          <a:xfrm>
            <a:off x="6588000" y="333360"/>
            <a:ext cx="1084320" cy="148896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19280" y="691920"/>
            <a:ext cx="338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Gill Sans MT Schoolbook"/>
              </a:rPr>
              <a:t>Results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700000" y="176220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This is what we saw.   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The higher the magnification we used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the bigger the cells became.</a:t>
            </a: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8028000" y="-2700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-36360" y="-2700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7 of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6" descr="mag1"/>
          <p:cNvPicPr/>
          <p:nvPr/>
        </p:nvPicPr>
        <p:blipFill>
          <a:blip r:embed="rId1"/>
          <a:stretch/>
        </p:blipFill>
        <p:spPr>
          <a:xfrm>
            <a:off x="3179880" y="4255920"/>
            <a:ext cx="1247760" cy="828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mag2"/>
          <p:cNvPicPr/>
          <p:nvPr/>
        </p:nvPicPr>
        <p:blipFill>
          <a:blip r:embed="rId2"/>
          <a:stretch/>
        </p:blipFill>
        <p:spPr>
          <a:xfrm>
            <a:off x="5146560" y="4265640"/>
            <a:ext cx="1225800" cy="819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mag3"/>
          <p:cNvPicPr/>
          <p:nvPr/>
        </p:nvPicPr>
        <p:blipFill>
          <a:blip r:embed="rId3"/>
          <a:stretch/>
        </p:blipFill>
        <p:spPr>
          <a:xfrm>
            <a:off x="7236000" y="4267080"/>
            <a:ext cx="1225440" cy="8175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9"/>
          <p:cNvSpPr/>
          <p:nvPr/>
        </p:nvSpPr>
        <p:spPr>
          <a:xfrm>
            <a:off x="3130560" y="3568680"/>
            <a:ext cx="20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At 20 x </a:t>
            </a: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magn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5005440" y="3568680"/>
            <a:ext cx="172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At 50 x magn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7054920" y="3573360"/>
            <a:ext cx="20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At 100 x magn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13" descr="mad_scientist_giving_lecture_hg_clr"/>
          <p:cNvPicPr/>
          <p:nvPr/>
        </p:nvPicPr>
        <p:blipFill>
          <a:blip r:embed="rId4"/>
          <a:stretch/>
        </p:blipFill>
        <p:spPr>
          <a:xfrm>
            <a:off x="6659640" y="549360"/>
            <a:ext cx="1476360" cy="13111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5"/>
          <p:cNvSpPr/>
          <p:nvPr/>
        </p:nvSpPr>
        <p:spPr>
          <a:xfrm>
            <a:off x="6516720" y="522936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Cell w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6"/>
          <p:cNvSpPr/>
          <p:nvPr/>
        </p:nvSpPr>
        <p:spPr>
          <a:xfrm flipV="1">
            <a:off x="7380360" y="4436640"/>
            <a:ext cx="287280" cy="863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7"/>
          <p:cNvSpPr/>
          <p:nvPr/>
        </p:nvSpPr>
        <p:spPr>
          <a:xfrm>
            <a:off x="5219640" y="525312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Nucle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8"/>
          <p:cNvSpPr/>
          <p:nvPr/>
        </p:nvSpPr>
        <p:spPr>
          <a:xfrm>
            <a:off x="3133800" y="5153040"/>
            <a:ext cx="1582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Close up of </a:t>
            </a: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onion sk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9"/>
          <p:cNvSpPr/>
          <p:nvPr/>
        </p:nvSpPr>
        <p:spPr>
          <a:xfrm flipV="1">
            <a:off x="5508720" y="4508640"/>
            <a:ext cx="0" cy="792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20"/>
          <p:cNvSpPr/>
          <p:nvPr/>
        </p:nvSpPr>
        <p:spPr>
          <a:xfrm>
            <a:off x="7093080" y="5805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21"/>
          <p:cNvSpPr/>
          <p:nvPr/>
        </p:nvSpPr>
        <p:spPr>
          <a:xfrm>
            <a:off x="7702560" y="5229360"/>
            <a:ext cx="144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Cytopla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22"/>
          <p:cNvSpPr/>
          <p:nvPr/>
        </p:nvSpPr>
        <p:spPr>
          <a:xfrm flipH="1" flipV="1">
            <a:off x="8027640" y="4868640"/>
            <a:ext cx="289080" cy="431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Gill Sans MT Schoolbook"/>
              </a:rPr>
              <a:t>Our conclusions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771280" y="1699920"/>
            <a:ext cx="58388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The microscope let us see the onion skin at different magnifications.  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394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At  x 20 magnification it still looked quite far away but we could see some cells.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394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At x 50 magnification we could see the cells clearly.  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394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At x 100 magnification we could see individual cells, and the cell</a:t>
            </a: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walls containing the cytoplasm.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48" name="Picture 4" descr="mad_scientist_magnifying_glass_hg_clr"/>
          <p:cNvPicPr/>
          <p:nvPr/>
        </p:nvPicPr>
        <p:blipFill>
          <a:blip r:embed="rId1"/>
          <a:stretch/>
        </p:blipFill>
        <p:spPr>
          <a:xfrm>
            <a:off x="7164360" y="476280"/>
            <a:ext cx="1093680" cy="13064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-36360" y="-2700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8 of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8028000" y="-2700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9T11:59:39Z</dcterms:created>
  <dc:creator>The Learning Trust</dc:creator>
  <dc:description/>
  <dc:language>en-US</dc:language>
  <cp:lastModifiedBy>LEGION2</cp:lastModifiedBy>
  <dcterms:modified xsi:type="dcterms:W3CDTF">2016-01-11T13:35:08Z</dcterms:modified>
  <cp:revision>48</cp:revision>
  <dc:subject/>
  <dc:title>Making a microscope slide</dc:title>
</cp:coreProperties>
</file>